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41E-1D7C-429C-B410-A5EAFE32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347-0B46-4D22-B2EF-C8A09ADC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018-40A9-40ED-B557-2A4968D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2E2-0D2C-42E0-A64E-E25345B2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98D-8B09-4277-B8FF-E789847F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278-E6E6-4953-BC81-2DA2A1B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AEE-1C26-402E-AA9F-137C786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742-C959-4FAF-8764-36BC2E92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B6C-F88B-48F0-BBCF-472DEF3A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DE0-8E29-453B-912D-588123E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053-23ED-4A6A-B4B5-AE48DEB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FB4-AE54-4796-8E3E-6A40FF2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39E-60D4-4994-B2E3-4EAB11D1E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4419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Fractions must hav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like (same) denomin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order to be added to or subtracted from one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ahead and add or subt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not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common denominator and convert one or both fractions so that they do have the same denomin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do some toge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19320" y="2306520"/>
                <a:ext cx="914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57360" y="34416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219320" y="3510000"/>
                <a:ext cx="9144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286000" y="4110120"/>
            <a:ext cx="23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360" y="4599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48006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43000" y="1905120"/>
                <a:ext cx="1447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094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3130560"/>
                <a:ext cx="1066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23880" y="3200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00200" y="4575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295280" y="4354560"/>
                <a:ext cx="1143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mixed numbers, you add or subtract fractions first, then whole numb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e place at a time just like when adding or subtracting whole numbers.)  Remember to stack before you attack so digits are set up by plac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191120"/>
                <a:ext cx="1676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y S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51460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954000" y="40194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00200" y="419112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32740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regroup if necess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textbook pg. 260  problems 27-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2:  Home textbook pg. 278 problems 20 -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2:37:29Z</dcterms:created>
  <dc:creator>Brian McGrath</dc:creator>
  <dc:description/>
  <dc:language>en-US</dc:language>
  <cp:lastModifiedBy>deanne elizabeth mcgrath</cp:lastModifiedBy>
  <dcterms:modified xsi:type="dcterms:W3CDTF">2011-03-15T19:18:43Z</dcterms:modified>
  <cp:revision>5</cp:revision>
  <dc:subject/>
  <dc:title>Tuesday, April 6, 2010</dc:title>
</cp:coreProperties>
</file>